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2.png" ContentType="image/png"/>
  <Override PartName="/ppt/media/image21.png" ContentType="image/png"/>
  <Override PartName="/ppt/media/image20.png" ContentType="image/png"/>
  <Override PartName="/ppt/media/image19.wmf" ContentType="image/x-wmf"/>
  <Override PartName="/ppt/media/image9.jpeg" ContentType="image/jpeg"/>
  <Override PartName="/ppt/media/image6.jpeg" ContentType="image/jpeg"/>
  <Override PartName="/ppt/media/breeze.wav" ContentType="audio/x-wav"/>
  <Override PartName="/ppt/media/image18.wmf" ContentType="image/x-wmf"/>
  <Override PartName="/ppt/media/image3.jpeg" ContentType="image/jpeg"/>
  <Override PartName="/ppt/media/image17.jpeg" ContentType="image/jpeg"/>
  <Override PartName="/ppt/media/image16.wmf" ContentType="image/x-wmf"/>
  <Override PartName="/ppt/media/image2.png" ContentType="image/png"/>
  <Override PartName="/ppt/media/image4.jpeg" ContentType="image/jpe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93E466-4826-4DB9-A7C1-52521F807F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1B5B1E-3BED-47A1-8D34-4720D765A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579FD6-4AB6-449E-9ADF-D58F5626E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2F255B-AE7E-4E3A-8E54-34EC59FD1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D1F09-4DC3-4BB8-AF1F-C51450695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6D9674-75E7-4A7C-8BAD-8FEAB5DFB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CFA59D-A459-42A8-9B74-3FC20F12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0C0E-3E2B-4225-ACF8-43CC72CE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D094-0D6F-4FEC-9EE8-27418E5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70BB-2EF0-462C-AE03-A007D1C74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64A3-E646-42EC-A459-4C48809B3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2BB8-523D-495F-8200-A3BFC98B7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F38A-3CEB-4A8D-8AFA-6BBB241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D754-0215-4CEA-8E0D-B2095A91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AEC-29CE-49F5-851E-A5E73695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EF6B6-7334-4C59-BF82-41B5F58D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493E-1DB4-4084-B0A6-29D5D673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079D-0455-4B0D-96E4-668A446A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83B-783C-4945-A28C-970CFC63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4309-D705-47A3-A1F1-06044A60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FF91-B10E-49DA-8C58-24FA82AD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1749-8D09-4422-95D9-8437662E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AC63-C1F9-4001-BC84-E450DA69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DB7C-E365-465E-9F4F-B636557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9EE6-AA6E-4DC1-A214-957CEA4A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9C7-5211-4D53-A604-57757AB3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9067-8693-451D-9F66-0E9F52CD9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5069-F9BA-409A-BFE1-1CA107B5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73E-70B1-4B69-A666-27FCE9DA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8CB-BF73-4B00-8AFE-91FE79FB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52C-7F11-4B5D-8794-071BED3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B1CE8-B76E-47AB-A534-385FAED0E1B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D20793-C8EE-4090-A4E4-BA216EC55E83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64AC0-CBEB-44E0-A877-84E9D2B61E2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883DE-3FAE-4DB2-86F8-EA77DB9C69C8}" type="slidenum"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whoosh.wav" TargetMode="External"/><Relationship Id="rId6" Type="http://schemas.openxmlformats.org/officeDocument/2006/relationships/image" Target="../media/image14.wmf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hyperlink" Target="file:///tmp/home/.config/libreoffice/4/user/gallery/whoosh.wav" TargetMode="External"/><Relationship Id="rId6" Type="http://schemas.openxmlformats.org/officeDocument/2006/relationships/image" Target="../media/image16.wmf"/><Relationship Id="rId7" Type="http://schemas.openxmlformats.org/officeDocument/2006/relationships/audio" Target="../media/breeze.wav"/><Relationship Id="rId8" Type="http://schemas.openxmlformats.org/officeDocument/2006/relationships/audio" Target="../media/breeze.wav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9.wmf"/><Relationship Id="rId1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4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GCA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05120" y="468000"/>
            <a:ext cx="578952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Cellular Respiration Flowchart (aerobic)</a:t>
            </a:r>
            <a:endParaRPr b="0" lang="en-US" sz="2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Line 4"/>
          <p:cNvSpPr/>
          <p:nvPr/>
        </p:nvSpPr>
        <p:spPr>
          <a:xfrm>
            <a:off x="1752480" y="3657600"/>
            <a:ext cx="29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0880" y="2666880"/>
            <a:ext cx="1419480" cy="1878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6"/>
          <p:cNvSpPr/>
          <p:nvPr/>
        </p:nvSpPr>
        <p:spPr>
          <a:xfrm>
            <a:off x="3471840" y="36338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2057400" y="2666880"/>
            <a:ext cx="1523880" cy="1905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508176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797280" y="2666880"/>
            <a:ext cx="1308240" cy="1878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6691320" y="363204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5334120" y="2666880"/>
            <a:ext cx="1447560" cy="2133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7010280" y="2057400"/>
            <a:ext cx="1905120" cy="3200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577800" y="2724120"/>
            <a:ext cx="117468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Glucose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C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Oxyge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0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218772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Glycolysi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79728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Kreb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yc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5407200" y="2724120"/>
            <a:ext cx="1298520" cy="18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Electron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Transport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h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7162920" y="2514600"/>
            <a:ext cx="136512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Carb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Dioxid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(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T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itric Acid Cycle (Krebs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yruvic acids from glycolysis diffuses into the mitochondri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yruvic acid is turned into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acetyl CoA and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 released.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e glucose molecule makes the cycle turn twic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mical rxns in Mitochondri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Products:  6 NADH, 2 FAD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, 2 ATP and 4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09-06-CellularRespirat-L2.gif"/>
          <p:cNvPicPr/>
          <p:nvPr/>
        </p:nvPicPr>
        <p:blipFill>
          <a:blip r:embed="rId2"/>
          <a:stretch/>
        </p:blipFill>
        <p:spPr>
          <a:xfrm>
            <a:off x="762120" y="12096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a58"/>
                </a:solidFill>
                <a:latin typeface="News Gothic MT"/>
              </a:rPr>
              <a:t>Krebs cycle</a:t>
            </a:r>
            <a:br>
              <a:rPr sz="3200"/>
            </a:b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pyruvate </a:t>
            </a:r>
            <a:r>
              <a:rPr b="0" lang="en-US" sz="32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acetyl CoA &amp; CO</a:t>
            </a:r>
            <a:r>
              <a:rPr b="0" lang="en-US" sz="3200" spc="-1" strike="noStrike" baseline="-25000">
                <a:solidFill>
                  <a:srgbClr val="d5edf4"/>
                </a:solidFill>
                <a:latin typeface="News Gothic MT"/>
              </a:rPr>
              <a:t>2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838080" y="6095880"/>
            <a:ext cx="746784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523880" y="6248520"/>
            <a:ext cx="16765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bio_ch9_4760"/>
          <p:cNvPicPr/>
          <p:nvPr/>
        </p:nvPicPr>
        <p:blipFill>
          <a:blip r:embed="rId2"/>
          <a:stretch/>
        </p:blipFill>
        <p:spPr>
          <a:xfrm>
            <a:off x="762120" y="838080"/>
            <a:ext cx="7619760" cy="5786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2541600" y="220176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00" spc="-1" strike="noStrike">
                <a:solidFill>
                  <a:srgbClr val="006699"/>
                </a:solidFill>
                <a:latin typeface="Calibri"/>
                <a:ea typeface="Arial"/>
              </a:rPr>
              <a:t>Citric Acid Produc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3600" y="304560"/>
            <a:ext cx="5996160" cy="29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 </a:t>
            </a:r>
            <a:r>
              <a:rPr b="0" lang="en-US" sz="2200" spc="-1" strike="noStrike">
                <a:solidFill>
                  <a:srgbClr val="2c7c9f"/>
                </a:solidFill>
                <a:latin typeface="News Gothic MT"/>
              </a:rPr>
              <a:t>The Krebs Cycle</a:t>
            </a:r>
            <a:endParaRPr b="0" lang="en-US" sz="2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838080" y="76212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Arial"/>
              </a:rPr>
              <a:t>Section 9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1892520" cy="13334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164280" y="2452680"/>
            <a:ext cx="24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Mitochondr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9"/>
          <p:cNvPicPr/>
          <p:nvPr/>
        </p:nvPicPr>
        <p:blipFill>
          <a:blip r:embed="rId2"/>
          <a:stretch/>
        </p:blipFill>
        <p:spPr>
          <a:xfrm>
            <a:off x="644400" y="457200"/>
            <a:ext cx="7853400" cy="4273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85800" y="5029200"/>
            <a:ext cx="784872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+ and e- transport molecu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4572000" y="762120"/>
            <a:ext cx="1295280" cy="9903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029200" y="12142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ron Transport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ADH and FAD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from Krebs Cycle are pumped by electron energy across the inner membrane (cristae) and creates a concentration difference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 H ions come back across through the ATP synthase and create ATP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xygen (from what we breathe in) comes in and binds to the H ions to make wat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lectron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2 ATP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ter is made from the Hydrogen and Oxyg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Documents and Settings\jcobb\Desktop\imgres3.jpg"/>
          <p:cNvPicPr/>
          <p:nvPr/>
        </p:nvPicPr>
        <p:blipFill>
          <a:blip r:embed="rId2"/>
          <a:stretch/>
        </p:blipFill>
        <p:spPr>
          <a:xfrm>
            <a:off x="0" y="1317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jcobb\Desktop\imgres.jpg"/>
          <p:cNvPicPr/>
          <p:nvPr/>
        </p:nvPicPr>
        <p:blipFill>
          <a:blip r:embed="rId2"/>
          <a:stretch/>
        </p:blipFill>
        <p:spPr>
          <a:xfrm>
            <a:off x="-561960" y="0"/>
            <a:ext cx="9710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1181160" y="1905120"/>
            <a:ext cx="3571920" cy="319068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824040" y="252360"/>
            <a:ext cx="6315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9688"/>
                </a:solidFill>
                <a:latin typeface="Arial"/>
              </a:rPr>
              <a:t>Electron Trans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675760" y="2119320"/>
            <a:ext cx="239292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tochond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wo membra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out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inner (fol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5"/>
          <p:cNvSpPr/>
          <p:nvPr/>
        </p:nvSpPr>
        <p:spPr>
          <a:xfrm>
            <a:off x="463680" y="3276720"/>
            <a:ext cx="97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6"/>
          <p:cNvSpPr/>
          <p:nvPr/>
        </p:nvSpPr>
        <p:spPr>
          <a:xfrm flipV="1">
            <a:off x="844560" y="3727440"/>
            <a:ext cx="6732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(glucose) into AT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 “breathing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can be either aerobic or anaerob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erobic – require oxyge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naerobic – does not require oxyge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ttp://www.science.smith.edu/departments/Biology/Bio231/krebs.htm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5" descr="09-06-CellularRespirat-L3.gif"/>
          <p:cNvPicPr/>
          <p:nvPr/>
        </p:nvPicPr>
        <p:blipFill>
          <a:blip r:embed="rId2"/>
          <a:stretch/>
        </p:blipFill>
        <p:spPr>
          <a:xfrm>
            <a:off x="762120" y="6048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2"/>
          <p:cNvSpPr/>
          <p:nvPr/>
        </p:nvSpPr>
        <p:spPr>
          <a:xfrm>
            <a:off x="762120" y="5486400"/>
            <a:ext cx="761976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019920" y="2362320"/>
            <a:ext cx="1752480" cy="1143000"/>
          </a:xfrm>
          <a:prstGeom prst="rect">
            <a:avLst/>
          </a:prstGeom>
          <a:solidFill>
            <a:srgbClr val="2c7c9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6019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ELECTRON TRANSPORT CHA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Oval 2"/>
          <p:cNvSpPr/>
          <p:nvPr/>
        </p:nvSpPr>
        <p:spPr>
          <a:xfrm>
            <a:off x="838080" y="2216160"/>
            <a:ext cx="4946760" cy="266076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1523880" y="2666880"/>
            <a:ext cx="3581640" cy="1981440"/>
          </a:xfrm>
          <a:prstGeom prst="pie">
            <a:avLst/>
          </a:prstGeom>
          <a:solidFill>
            <a:srgbClr val="ffa27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051360" y="335124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2170080" y="2347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4851360" y="3733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4303800" y="24242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78468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803240" y="40370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279396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 flipV="1">
            <a:off x="4267080" y="4647960"/>
            <a:ext cx="1526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2990160" y="492768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1739160" y="152280"/>
            <a:ext cx="36669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9688"/>
                </a:solidFill>
                <a:latin typeface="Arial"/>
              </a:rPr>
              <a:t>Mitochond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18"/>
          <p:cNvGraphicFramePr/>
          <p:nvPr/>
        </p:nvGraphicFramePr>
        <p:xfrm>
          <a:off x="8915400" y="1600200"/>
          <a:ext cx="203976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15400" y="1600200"/>
                    <a:ext cx="20397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Rectangle 19"/>
          <p:cNvSpPr/>
          <p:nvPr/>
        </p:nvSpPr>
        <p:spPr>
          <a:xfrm flipV="1" rot="10608600">
            <a:off x="1368720" y="2819160"/>
            <a:ext cx="52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3259080" y="251316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1"/>
          <p:cNvSpPr/>
          <p:nvPr/>
        </p:nvSpPr>
        <p:spPr>
          <a:xfrm>
            <a:off x="650880" y="1738440"/>
            <a:ext cx="8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1255680" y="1357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23"/>
          <p:cNvGraphicFramePr/>
          <p:nvPr/>
        </p:nvGraphicFramePr>
        <p:xfrm>
          <a:off x="4267080" y="1523880"/>
          <a:ext cx="204012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3" name="Object 23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523880"/>
                    <a:ext cx="20401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Rectangle 24"/>
          <p:cNvSpPr/>
          <p:nvPr/>
        </p:nvSpPr>
        <p:spPr>
          <a:xfrm>
            <a:off x="4774680" y="1600200"/>
            <a:ext cx="88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1712160" y="137160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2336760" y="2743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5613480" y="12193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6062760" y="121932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725560" y="22860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30"/>
          <p:cNvCxnSpPr/>
          <p:nvPr/>
        </p:nvCxnSpPr>
        <p:spPr>
          <a:xfrm>
            <a:off x="8915400" y="1828800"/>
            <a:ext cx="91512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Bar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animMotion origin="layout" path="M 0.39862 0.52683 C 0.16042 0.5074 -0.07778 0.48797 -0.11042 0.45745 C -0.14323 0.42692 0.24792 0.37419 0.20296 0.34412 C 0.15799 0.31406 -0.36233 0.35962 -0.38056 0.27613 C -0.39879 0.19264 0.01684 -0.11124 0.0941 -0.15703 C 0.17119 -0.20282 0.09775 -0.02405 0.08212 0.00208 C 0.06649 0.02821 0.01371 0.00023 8.88889E-006 1.3876E-007 E">
                                      <p:cBhvr>
                                        <p:cTn id="150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-0.23438 0.00162 C -0.24011 -0.05458 -0.24549 -0.11055 -0.26077 -0.142 C -0.27604 -0.17345 -0.30434 -0.19357 -0.3257 -0.18779 C -0.34705 -0.18201 -0.35521 -0.11772 -0.38889 -0.10661 C -0.42274 -0.09551 -0.4809 -0.1006 -0.52813 -0.12118 C -0.57518 -0.14177 -0.62865 -0.24399 -0.67153 -0.22965 C -0.71441 -0.21508 -0.75382 -0.03747 -0.78577 -0.03377 C -0.81771 -0.02983 -0.83403 -0.20999 -0.86302 -0.20652 C -0.89219 -0.20305 -0.94271 -0.0481 -0.96042 -0.01272 C -0.97813 0.02243 -0.97396 0.01318 -0.96962 0.00393 E">
                                      <p:cBhvr>
                                        <p:cTn id="154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457200" y="1325520"/>
          <a:ext cx="2251080" cy="3170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325520"/>
                    <a:ext cx="2251080" cy="31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Rectangle 3"/>
          <p:cNvSpPr/>
          <p:nvPr/>
        </p:nvSpPr>
        <p:spPr>
          <a:xfrm>
            <a:off x="3292560" y="533520"/>
            <a:ext cx="5775120" cy="32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passed across inne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heir energy gradually decreases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energy used to transport</a:t>
            </a: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c7c9f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o the intermembran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Oxygen</a:t>
            </a: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the final electron acce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 joins with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produce 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244a58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O.</a:t>
            </a: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123280" y="5105520"/>
            <a:ext cx="5146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If there is no oxyg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the electron chain st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because there is no way to release electrons</a:t>
            </a:r>
            <a:r>
              <a:rPr b="1" lang="en-US" sz="1800" spc="-1" strike="noStrike">
                <a:solidFill>
                  <a:srgbClr val="09213b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143000" y="3429000"/>
            <a:ext cx="1612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Oval 2"/>
          <p:cNvSpPr/>
          <p:nvPr/>
        </p:nvSpPr>
        <p:spPr>
          <a:xfrm>
            <a:off x="838080" y="2216160"/>
            <a:ext cx="4946760" cy="2660760"/>
          </a:xfrm>
          <a:prstGeom prst="ellipse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1523880" y="2666880"/>
            <a:ext cx="3581640" cy="1981440"/>
          </a:xfrm>
          <a:prstGeom prst="pie">
            <a:avLst/>
          </a:prstGeom>
          <a:solidFill>
            <a:srgbClr val="ffa27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3051360" y="3351240"/>
            <a:ext cx="865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d5edf4"/>
                </a:solidFill>
                <a:latin typeface="Arial"/>
              </a:rPr>
              <a:t>mat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2170080" y="2347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6"/>
          <p:cNvSpPr/>
          <p:nvPr/>
        </p:nvSpPr>
        <p:spPr>
          <a:xfrm>
            <a:off x="4851360" y="37339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4303800" y="24242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378468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1803240" y="403704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793960" y="43434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"/>
          <p:cNvSpPr/>
          <p:nvPr/>
        </p:nvSpPr>
        <p:spPr>
          <a:xfrm flipV="1">
            <a:off x="4267080" y="4647960"/>
            <a:ext cx="15264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2990160" y="4927680"/>
            <a:ext cx="2455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739160" y="152280"/>
            <a:ext cx="3666960" cy="8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9688"/>
                </a:solidFill>
                <a:latin typeface="Arial"/>
              </a:rPr>
              <a:t>Mitochondr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18"/>
          <p:cNvGraphicFramePr/>
          <p:nvPr/>
        </p:nvGraphicFramePr>
        <p:xfrm>
          <a:off x="8915400" y="1600200"/>
          <a:ext cx="2039760" cy="606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Object 1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915400" y="1600200"/>
                    <a:ext cx="203976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19"/>
          <p:cNvSpPr/>
          <p:nvPr/>
        </p:nvSpPr>
        <p:spPr>
          <a:xfrm flipV="1" rot="10608600">
            <a:off x="1368720" y="2819160"/>
            <a:ext cx="525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20"/>
          <p:cNvSpPr/>
          <p:nvPr/>
        </p:nvSpPr>
        <p:spPr>
          <a:xfrm>
            <a:off x="3259080" y="251316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1"/>
          <p:cNvSpPr/>
          <p:nvPr/>
        </p:nvSpPr>
        <p:spPr>
          <a:xfrm>
            <a:off x="650880" y="1738440"/>
            <a:ext cx="839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D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22"/>
          <p:cNvSpPr/>
          <p:nvPr/>
        </p:nvSpPr>
        <p:spPr>
          <a:xfrm>
            <a:off x="1255680" y="1357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23"/>
          <p:cNvGraphicFramePr/>
          <p:nvPr/>
        </p:nvGraphicFramePr>
        <p:xfrm>
          <a:off x="4267080" y="1523880"/>
          <a:ext cx="2040120" cy="606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5" name="Object 23" descr="">
                    <a:hlinkClick r:id="rId5"/>
                  </p:cNvPr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1523880"/>
                    <a:ext cx="2040120" cy="6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24"/>
          <p:cNvSpPr/>
          <p:nvPr/>
        </p:nvSpPr>
        <p:spPr>
          <a:xfrm>
            <a:off x="4774680" y="1600200"/>
            <a:ext cx="8884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D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5"/>
          <p:cNvSpPr/>
          <p:nvPr/>
        </p:nvSpPr>
        <p:spPr>
          <a:xfrm>
            <a:off x="1712160" y="137160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6"/>
          <p:cNvSpPr/>
          <p:nvPr/>
        </p:nvSpPr>
        <p:spPr>
          <a:xfrm>
            <a:off x="2336760" y="27432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7"/>
          <p:cNvSpPr/>
          <p:nvPr/>
        </p:nvSpPr>
        <p:spPr>
          <a:xfrm>
            <a:off x="5613480" y="121932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25"/>
          <p:cNvSpPr/>
          <p:nvPr/>
        </p:nvSpPr>
        <p:spPr>
          <a:xfrm>
            <a:off x="6062760" y="1219320"/>
            <a:ext cx="35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1800" spc="-1" strike="noStrike" baseline="30000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6"/>
          <p:cNvSpPr/>
          <p:nvPr/>
        </p:nvSpPr>
        <p:spPr>
          <a:xfrm>
            <a:off x="2725560" y="2286000"/>
            <a:ext cx="423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244a58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244a58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30"/>
          <p:cNvCxnSpPr/>
          <p:nvPr/>
        </p:nvCxnSpPr>
        <p:spPr>
          <a:xfrm>
            <a:off x="8915400" y="1828800"/>
            <a:ext cx="915120" cy="9151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randomBar dir="horz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animMotion origin="layout" path="M 0.39862 0.52683 C 0.16042 0.5074 -0.07778 0.48797 -0.11042 0.45745 C -0.14323 0.42692 0.24792 0.37419 0.20296 0.34412 C 0.15799 0.31406 -0.36233 0.35962 -0.38056 0.27613 C -0.39879 0.19264 0.01684 -0.11124 0.0941 -0.15703 C 0.17119 -0.20282 0.09775 -0.02405 0.08212 0.00208 C 0.06649 0.02821 0.01371 0.00023 8.88889E-006 1.3876E-007 E">
                                      <p:cBhvr>
                                        <p:cTn id="243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reeze.wav"/>
                                        </p:tgtEl>
                                      </p:cMediaNode>
                                    </p:audio>
                                    <p:animMotion origin="layout" path="M -0.23438 0.00162 C -0.24011 -0.05458 -0.24549 -0.11055 -0.26077 -0.142 C -0.27604 -0.17345 -0.30434 -0.19357 -0.3257 -0.18779 C -0.34705 -0.18201 -0.35521 -0.11772 -0.38889 -0.10661 C -0.42274 -0.09551 -0.4809 -0.1006 -0.52813 -0.12118 C -0.57518 -0.14177 -0.62865 -0.24399 -0.67153 -0.22965 C -0.71441 -0.21508 -0.75382 -0.03747 -0.78577 -0.03377 C -0.81771 -0.02983 -0.83403 -0.20999 -0.86302 -0.20652 C -0.89219 -0.20305 -0.94271 -0.0481 -0.96042 -0.01272 C -0.97813 0.02243 -0.97396 0.01318 -0.96962 0.00393 E">
                                      <p:cBhvr>
                                        <p:cTn id="24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1495440" y="533520"/>
            <a:ext cx="6818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What happens when there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no 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to accept the electr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1009800" y="2521080"/>
            <a:ext cx="813420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* glycolysis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* then fermentation in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 ki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lact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tha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8523360" y="0"/>
            <a:ext cx="620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4B2384-6F58-43D8-889A-FA515217F029}" type="slidenum">
              <a:rPr b="0" lang="en-US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08_11"/>
          <p:cNvPicPr/>
          <p:nvPr/>
        </p:nvPicPr>
        <p:blipFill>
          <a:blip r:embed="rId2"/>
          <a:stretch/>
        </p:blipFill>
        <p:spPr>
          <a:xfrm>
            <a:off x="1251000" y="430200"/>
            <a:ext cx="6645240" cy="63565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0200" y="1650600"/>
            <a:ext cx="5121360" cy="482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roducts of Ferment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79240" y="533520"/>
            <a:ext cx="3250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762120" y="2521080"/>
            <a:ext cx="813420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0 A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ust takes e-&amp; H+ off NAD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o glycolysis ca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388520" y="641520"/>
            <a:ext cx="5818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Arial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80880" y="2251080"/>
            <a:ext cx="8320320" cy="22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fter glucose broken down to pyruvate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n pyruvate broken d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2c7c9f"/>
                </a:solidFill>
                <a:latin typeface="Comic Sans MS"/>
              </a:rPr>
              <a:t>CO</a:t>
            </a:r>
            <a:r>
              <a:rPr b="1" lang="en-US" sz="2800" spc="-1" strike="noStrike" baseline="-25000">
                <a:solidFill>
                  <a:srgbClr val="2c7c9f"/>
                </a:solidFill>
                <a:latin typeface="Comic Sans MS"/>
              </a:rPr>
              <a:t>2 </a:t>
            </a:r>
            <a:r>
              <a:rPr b="1" lang="en-US" sz="2800" spc="-1" strike="noStrike">
                <a:solidFill>
                  <a:srgbClr val="2c7c9f"/>
                </a:solidFill>
                <a:latin typeface="Comic Sans MS"/>
              </a:rPr>
              <a:t>and ETHANOL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838080" y="4984920"/>
          <a:ext cx="64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84920"/>
                    <a:ext cx="64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2666880" y="5137200"/>
          <a:ext cx="646200" cy="15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513720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6"/>
          <p:cNvGraphicFramePr/>
          <p:nvPr/>
        </p:nvGraphicFramePr>
        <p:xfrm>
          <a:off x="5029200" y="5060880"/>
          <a:ext cx="646200" cy="159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Object 7"/>
          <p:cNvGraphicFramePr/>
          <p:nvPr/>
        </p:nvGraphicFramePr>
        <p:xfrm>
          <a:off x="7238880" y="5060880"/>
          <a:ext cx="646200" cy="15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Object 8"/>
          <p:cNvGraphicFramePr/>
          <p:nvPr/>
        </p:nvGraphicFramePr>
        <p:xfrm>
          <a:off x="7532640" y="282600"/>
          <a:ext cx="952560" cy="162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41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32640" y="282600"/>
                    <a:ext cx="95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9"/>
          <p:cNvGraphicFramePr/>
          <p:nvPr/>
        </p:nvGraphicFramePr>
        <p:xfrm>
          <a:off x="141120" y="358920"/>
          <a:ext cx="952560" cy="162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43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1120" y="358920"/>
                    <a:ext cx="95256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09-17a-Fermentation-L"/>
          <p:cNvPicPr/>
          <p:nvPr/>
        </p:nvPicPr>
        <p:blipFill>
          <a:blip r:embed="rId2"/>
          <a:stretch/>
        </p:blipFill>
        <p:spPr>
          <a:xfrm>
            <a:off x="1092240" y="339840"/>
            <a:ext cx="7594560" cy="65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143000" y="533520"/>
            <a:ext cx="63277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Arial"/>
              </a:rPr>
              <a:t>3 Stage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Arial"/>
              </a:rPr>
              <a:t>Aerobic Cellular Respi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009688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Preparation Step &amp;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  </a:t>
            </a: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Citric Acid Cycle (Kreb’s Cycle)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009688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c7c9f"/>
                </a:solidFill>
                <a:latin typeface="News Gothic MT"/>
              </a:rPr>
              <a:t>Electron Transport </a:t>
            </a:r>
            <a:endParaRPr b="0" lang="en-US" sz="32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380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" dur="1" fill="hold"/>
                                  <p:tgtEl>
                                    <p:spTgt spid="9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68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1388520" y="641520"/>
            <a:ext cx="58186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9213b"/>
                </a:solidFill>
                <a:latin typeface="Arial"/>
              </a:rPr>
              <a:t>Alcoholic Fer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2251080"/>
            <a:ext cx="832032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cteria &amp; ye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to make bread, alcoho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838080" y="4984920"/>
          <a:ext cx="646200" cy="159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4984920"/>
                    <a:ext cx="64620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9" name="Object 5"/>
          <p:cNvGraphicFramePr/>
          <p:nvPr/>
        </p:nvGraphicFramePr>
        <p:xfrm>
          <a:off x="2666880" y="5137200"/>
          <a:ext cx="646200" cy="1595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513720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6"/>
          <p:cNvGraphicFramePr/>
          <p:nvPr/>
        </p:nvGraphicFramePr>
        <p:xfrm>
          <a:off x="5029200" y="5060880"/>
          <a:ext cx="646200" cy="1595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7"/>
          <p:cNvGraphicFramePr/>
          <p:nvPr/>
        </p:nvGraphicFramePr>
        <p:xfrm>
          <a:off x="7238880" y="5060880"/>
          <a:ext cx="646200" cy="1595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238880" y="5060880"/>
                    <a:ext cx="64620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8"/>
          <p:cNvGraphicFramePr/>
          <p:nvPr/>
        </p:nvGraphicFramePr>
        <p:xfrm>
          <a:off x="7532640" y="282600"/>
          <a:ext cx="952560" cy="162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6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32640" y="282600"/>
                    <a:ext cx="952560" cy="16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9"/>
          <p:cNvGraphicFramePr/>
          <p:nvPr/>
        </p:nvGraphicFramePr>
        <p:xfrm>
          <a:off x="141120" y="358920"/>
          <a:ext cx="952560" cy="1622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8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1120" y="358920"/>
                    <a:ext cx="952560" cy="16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3" descr="09-17b-Fermentation-L"/>
          <p:cNvPicPr/>
          <p:nvPr/>
        </p:nvPicPr>
        <p:blipFill>
          <a:blip r:embed="rId2"/>
          <a:stretch/>
        </p:blipFill>
        <p:spPr>
          <a:xfrm>
            <a:off x="380880" y="326880"/>
            <a:ext cx="8534520" cy="637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999080" y="533520"/>
            <a:ext cx="58111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9213b"/>
                </a:solidFill>
                <a:latin typeface="Comic Sans MS"/>
              </a:rPr>
              <a:t>Lactic Acid fer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762120" y="2521080"/>
            <a:ext cx="8134200" cy="31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y human musc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&amp;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sed to make cheese, yogurt, sour kr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85800" y="533520"/>
            <a:ext cx="419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9688"/>
                </a:solidFill>
                <a:latin typeface="Comic Sans MS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704880" y="685800"/>
            <a:ext cx="813420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you work anaerobicall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rmentation occurs in you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ctic acid build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1219320" y="3124080"/>
          <a:ext cx="2879640" cy="332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3124080"/>
                    <a:ext cx="2879640" cy="332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5"/>
          <p:cNvSpPr/>
          <p:nvPr/>
        </p:nvSpPr>
        <p:spPr>
          <a:xfrm>
            <a:off x="4588920" y="4343400"/>
            <a:ext cx="306792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results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muscle so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ep in aerobic or anaerobic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cytoplasm of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lucose          2 Pyruvic Acid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s process does not require Oxyge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tal energy made is 4 ATP, but 2 is needed to start the rxn.  2 ATP is extr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What is made?  2 NADPH, 2 ATP, 2 Pyruvic Ac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99" name="Straight Arrow Connector 4"/>
          <p:cNvCxnSpPr/>
          <p:nvPr/>
        </p:nvCxnSpPr>
        <p:spPr>
          <a:xfrm>
            <a:off x="2286000" y="3123720"/>
            <a:ext cx="4579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09-06-CellularRespirat-L1.gif"/>
          <p:cNvPicPr/>
          <p:nvPr/>
        </p:nvPicPr>
        <p:blipFill>
          <a:blip r:embed="rId2"/>
          <a:stretch/>
        </p:blipFill>
        <p:spPr>
          <a:xfrm>
            <a:off x="762120" y="1209600"/>
            <a:ext cx="7619760" cy="56484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4a58"/>
                </a:solidFill>
                <a:latin typeface="News Gothic MT"/>
              </a:rPr>
              <a:t>Glycolysi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glucose </a:t>
            </a:r>
            <a:r>
              <a:rPr b="0" lang="en-US" sz="3200" spc="-1" strike="noStrike">
                <a:solidFill>
                  <a:srgbClr val="d5edf4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d5edf4"/>
                </a:solidFill>
                <a:latin typeface="News Gothic MT"/>
              </a:rPr>
              <a:t> pyruvate</a:t>
            </a:r>
            <a:br>
              <a:rPr sz="3200"/>
            </a:br>
            <a:r>
              <a:rPr b="0" lang="en-US" sz="3200" spc="-1" strike="noStrike">
                <a:solidFill>
                  <a:srgbClr val="2c7c9f"/>
                </a:solidFill>
                <a:latin typeface="News Gothic MT"/>
              </a:rPr>
              <a:t> </a:t>
            </a:r>
            <a:endParaRPr b="0" lang="en-US" sz="32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1371600" y="6095880"/>
            <a:ext cx="1676520" cy="457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4" name="Content Placeholder 3" descr="glycolysis_steps.jpg"/>
          <p:cNvPicPr/>
          <p:nvPr/>
        </p:nvPicPr>
        <p:blipFill>
          <a:blip r:embed="rId2"/>
          <a:srcRect l="-94412" t="0" r="-94412" b="0"/>
          <a:stretch/>
        </p:blipFill>
        <p:spPr>
          <a:xfrm>
            <a:off x="-685800" y="0"/>
            <a:ext cx="10639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lycoly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7" name="Picture 3" descr="bio_ch9_4756"/>
          <p:cNvPicPr/>
          <p:nvPr/>
        </p:nvPicPr>
        <p:blipFill>
          <a:blip r:embed="rId2"/>
          <a:stretch/>
        </p:blipFill>
        <p:spPr>
          <a:xfrm>
            <a:off x="457200" y="2984400"/>
            <a:ext cx="7867800" cy="23400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693000" y="332100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7171920" y="3321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7165440" y="431172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yruv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erobic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requi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lease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and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and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member that cellular respiration is the opposite of photosynthesi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0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+ 6 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        6 CO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+ 6 H</a:t>
            </a:r>
            <a:r>
              <a:rPr b="1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O + AT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3276720" y="5335560"/>
            <a:ext cx="457920" cy="216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5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0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6">
                                  <p:stCondLst>
                                    <p:cond delay="0"/>
                                  </p:stCondLst>
                                  <p:iterate type="wd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1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2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2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erobic Respir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lycolysis is  1</a:t>
            </a:r>
            <a:r>
              <a:rPr b="0" lang="en-US" sz="2400" spc="-1" strike="noStrike" baseline="30000">
                <a:solidFill>
                  <a:srgbClr val="595959"/>
                </a:solidFill>
                <a:latin typeface="News Gothic MT"/>
              </a:rPr>
              <a:t>st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step and in both aerobic or anaerobic 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Steps in Aerobic Respiratio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2.  Citric Acid Cycle or Krebs Cycl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3.  Hydrogen and Electron Transport Syste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0T23:25:40Z</dcterms:created>
  <dc:creator>Jason Cobb</dc:creator>
  <dc:description/>
  <dc:language>en-US</dc:language>
  <cp:lastModifiedBy>Jason Cobb</cp:lastModifiedBy>
  <dcterms:modified xsi:type="dcterms:W3CDTF">2012-11-07T21:46:00Z</dcterms:modified>
  <cp:revision>23</cp:revision>
  <dc:subject/>
  <dc:title>Chapter 4 Cellular Respiration</dc:title>
</cp:coreProperties>
</file>